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242-038B-48F0-B06A-EA017718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485-B346-4ED5-A474-15D78AA5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457-35A1-4E3F-AD89-19DDF9C5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20A-C42D-46D2-B69A-7A404E65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EC4BE-341E-4F4C-A538-2091E5FA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4089C-40DF-4AEE-BEE7-079B02F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0D9BC-8BE3-40D9-A580-4EC2A614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C3B7F-7408-4CA7-B703-BF6AEE4F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46FEE-C485-4D05-B6EC-7AEFB3D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3ED39-3881-45CB-AEC1-579FED9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18579-63C7-4AD9-AD22-05DEC05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DDB-EED2-43E6-A798-655CA0BB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AEB77-BD03-423E-AE20-736F863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16CB1-59CA-4BD4-8F2F-6A30072C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DF03B-F484-4A04-A51E-71A47A81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74C20-DF91-4A90-B2DE-9AAA0FB6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C89B0-63F7-4C3A-BE9E-24B8A83E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822-5C01-498E-B916-73B94103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ABF-7BCA-48C1-A697-6D0287D3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ACE-47E5-49C3-88E4-BD00F58A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072-B740-471D-95DB-400BAB1E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14B-F43F-4C50-93B3-9919E1A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6E2-09B5-4E05-BA9D-8F747A56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116-B2A1-4A5A-96BC-DC7ABDC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BF53-9E5D-42F1-A365-347169A3C39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0050-CB5F-4A27-9C32-D211EBC75CC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t8500@126.com" TargetMode="External"/><Relationship Id="rId2" Type="http://schemas.openxmlformats.org/officeDocument/2006/relationships/hyperlink" Target="http://www.zgwyzx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zgwyzx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98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701c"/>
                </a:solidFill>
                <a:latin typeface="Arial Black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32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75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物业管理招投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袁    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13320238500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ffcc"/>
                </a:solidFill>
                <a:uFillTx/>
                <a:latin typeface="Arial"/>
                <a:ea typeface="黑体"/>
                <a:hlinkClick r:id="rId1"/>
              </a:rPr>
              <a:t>yt8500@126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ffcc"/>
                </a:solidFill>
                <a:uFillTx/>
                <a:latin typeface="Arial"/>
                <a:ea typeface="黑体"/>
                <a:hlinkClick r:id="rId2"/>
              </a:rPr>
              <a:t>www.zgwyzx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835280" y="549360"/>
            <a:ext cx="64764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公正原则。衡量所有投标书的投标评定准则具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一贯性和普遍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一贯性是指招标人在进行投标评定过程中采用的评标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则应与招标文件中所注明的评判准则相一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普遍性是指用于投标评定的准则能够客观衡量所有的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标书。即所采用的评定标准具有很强的综合性和客观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合理原则。选定投标的价格和相对应的要求必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合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为体现合理原则，招标人应按国际惯例在招标文件中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明：“招标方不约束自己接受最低标价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物业管理投标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真实性原则。投标人在其投标书中所表达的所有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容均真实反映投标人投标意愿、经营能力和服务水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合理竞争原则。投标人应当依靠自身的经营实力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管理水平和服务质量通过良性竞争优胜劣汰而取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垄断联盟和恶性竞争都将严重损害招标人利益和危害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业发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量力而行原则。投标人应根据自己的品牌影响、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理优势、技术特长等，选择适合的自己的物业项目进行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标，控制投标成本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六）物业管理招投标组织机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物业管理招标的组织机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标机构分为两种形式：一是招标人自行组织招标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构；二是招标人委托代理机构招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物业管理投标的组织机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物业管理投标的组织机构一般由物业服务企业负责项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管理或市场拓展的部门牵头，工程、财务、人力资源等其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业务部门参与共同组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物业管理招标程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一）招标准备阶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标准备阶段的主要工作：成立招标机构；编制招标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件；确定标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成立招标机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标机构的主要职责：拟定招标章程和招标文件；组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投标、开标、评标和定标；组织签订合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开发商或业主可自行成立招标机构，也可委托专门的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业管理招标机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编制招标文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编制招标文件是招标准备阶段招标人最重要的工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招标文件的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告知投标人递交投标书的程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阐明标的情况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③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告知投标评定准则及订立合同的条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标文件是对招标机构和投标人双方，以及招标人和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标人双方都具有约束力的重要文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编制招标文件的总要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条款严密、内容明确、合理合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物业管理招标文件的基本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投标人须知：是投标人如何投标的指导性文件，包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投标条件、相关要求、招标程序及手续等内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合同条款：中标后所要签订的合同内容。合同条款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为一般性条款和特殊性条款。一般性条款通常包括技术条款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商务条款和法律条款，具有行业普遍性。特殊性条款为针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项目特点的个性化条款。特殊性条款优于一般性条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③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技术规范：招标项目的详细技术要求（如服务标准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具体服务内容或工作量等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招标文件的编制时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合理确定招标文件的编制时间，尽量做到既有前瞻性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又有可行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制定标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标底是招标人审核报价、评标和确定中标人的重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依据，必须严格保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标底是一种预算价格，应力求合理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二）招标实施阶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标实施阶段的主要工作：发布招标公告或投标邀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书；组织资格预审；组织现场踏勘和召开标前会议；开标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评标和定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发布招标公告或投标邀请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接受投标人投标意向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投标人资格预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对预审合格的投标人发出投标通知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发售招标文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组织投标人踏勘现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召开标前会，解释招标文件并以书面形式告知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有投标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组建评标小组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人以上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单数，专家不少于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/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组织开标会（招标人主持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评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编制评标报告（评标小组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招标人定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发出中标或未中标通知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退还未中标投标人保证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评标和中标结果备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物业管理招投标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一）招投标基本概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所谓招标和投标是一个过程的两个方面，是指由招标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发出招标公告或通知，由若干个投标人同时投标，最后由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标人通过对各投标人提交的价格、质量、交割期限以及投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人的技术水平、信誉程度和财务状况等因素进行综合比较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确定其中条件最佳的投标人为中标人，并与之最终订立合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过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三）招标结束阶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招标结束阶段的主要内容包括：完善物业服务方案；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的签订、备案；合同履行；相关资料的整理与归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物业管理招标文件的编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一）招标文件的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标文件的内容一般包括三部分（六个要素）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一部分——投标人为投标所需了解并遵循的规定，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括投标邀请书、投标人须知、技术规范及要求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二部分——投标人必须按规定填报的投标书格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三部分——中标人应签订的合同条件及应办理的文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格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二）招标文件样本（目录）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一部分  投标邀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二部分  技术规范及要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三部分  投标人须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一）总则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适用范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定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合格的投标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费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二）招标文件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招标文件的构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招标文件的澄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招标文件的修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三）投标文件的编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语言及计量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文件组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文件格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报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货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人资格证明文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有效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保证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文件的份数和签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四）投标文件的递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文件的密封和标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递交投标文件的截止时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迟交的投标文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文件的修改和撤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五）开标和评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开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评标小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文件响应性的确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文件的澄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对投标文件的评估和比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评标原则及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保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六）合同授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定标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资格最终审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接受和拒绝任何或所有投标的权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中标通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授予合同时变更数量的权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合同协议书的签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履约保证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中标服务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四部分  合同一般条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定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适用范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技术规格和标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服务管理期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价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索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不可抗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履约保证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争议解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合同终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合同修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适用法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主导语言和计量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合同份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合同生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五部分  合同特殊条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六部分  附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投标作为一种特殊的交易方式和订立合同的一种特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程序，具有以下特点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标价保密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标底是招标人的绝密资料，不能向任何无关人员泄露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报价一次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招投标不存在也不允许讨价还价，每个投标人都只有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次投标机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法律约束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投标人一旦向招标人递交了投标书和报价，该投标书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报价即被视为在法律上有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、物业管理投标程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一）投标前期工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取得投标资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具有工商执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具有资质证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其他资格文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收集招标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进行投标可行性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物业条件分析：物业性质、特殊服务要求、物业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标背景、开发商或业主状况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本公司投标条件分析：类似物业管理经验、品牌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响力、人力资源、技术实力、财务状况、公共关系、优势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劣势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竞争者分析：同类物业服务企业规模和质量、经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方式差异、地域文化和政策差异、潜在竞争者（技术黑马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背景黑马）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风险分析：合同风险、经营风险、政策风险、不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抗力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申请资格预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二）正式投标过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购买招标文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参加标前会议和考察物业现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制定管理服务方案和测算工作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拟定资金计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测算确定投标报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编制标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缴纳投标保证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封送标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参加开标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进行答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获得定标结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三）定标后的工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中标后的合同签订与履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未中标的善后与总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资料的整理与归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80928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五、物业管理投标书的编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一）物业管理投标书的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物业管理投标书应根据招标文件的要求进行编写。其主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内容一般有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本物业服务企业的概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所投标物业的服务定位和服务要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本物业服务企业提供的管理服务内容及标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本物业服务企业确保管理服务内容和标准得以实现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措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提供服务的价格和价格依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其他相关证明文件及附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二）投标书的常见结构和编写目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综合式投标书编写目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投标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授权委托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本物业服务企业介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拟投标物业情况概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5)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拟投标物业的整体分析与管理思路（特点分析、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务定位、策略思路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6)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拟采取的管理服务模式与机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7)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管理服务的主要服务标准、承诺指标及保障措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8)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人力资源的配置、培训与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9)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物资装备计划与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10)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规章制度建立和档案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物业维修养护计划与实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应急预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社区文化建设与社区服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费用测算与财务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报价及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附件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营业执照、资质证书、诚信证明、荣誉称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等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组合式投标书编写目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商务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投标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本物业服务企业介绍（业绩和特色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③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企业诚信证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④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工商执照复印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⑤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企业资质复印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⑥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税务登记复印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企业代码复印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⑧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拟任项目主要管理人员从业经历简介及其从业资格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书复印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⑨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授权委托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⑩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其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技术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拟投标物业情况概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拟投标物业的整体分析与管理思路（特点分析、服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定位、策略思路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③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拟采取的管理服务模式与机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④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管理服务的主要服务标准、承诺指标及保障措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⑤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人力资源的配置、培训与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⑥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物资装备计划与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规章制度建立和档案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⑧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物业维修养护计划与实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⑨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应急预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⑩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社区文化建设与社区服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二）我国物业管理招投标的发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投标制度是经济发展和市场竞争的必然产物，而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业管理招投标同样是物业管理市场化发展的结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98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至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99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，建设部要求“谁建设谁主管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99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，深圳“莲花北小区”在国内第一次采用内部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投标方式确定物业服务企业，深圳万厦居业物业公司中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99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，深圳“鹿丹村小区”在国内第一次采用社会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开招投标方式选择物业服务企业，深圳万科物业公司中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00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日《中华人民共和国招投标法》实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00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日建设部《前期物业管理招投标管理暂行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法》实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00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日重庆市《前期物业管理招投标管理暂行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法》实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经济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报价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费用测算与财务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③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报价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三）投标书的形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投标书的形式分为明标形式、暗标形式和明暗标结合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形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明标形式的投标书可以公开载明投标单位的信息资料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识别符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暗标形式的投标书必须严格按照招标文件要求的格式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文字、字号、字体、版式、纸质、色彩等制作，不能载有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何可以识别投标单位的信息和符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明暗标结合的投标书，分别按明暗标部分的不同要求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无论哪种形式的投标书，均应按招标文件的要求编写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容，密封并加盖印鉴后递交招标机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六、开标、评标与定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一）开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在招标文件预先规定的时间将各投标人的投标文件正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启封揭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开标时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通常为招标文件预先规定的时间。投标人须由其法定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表人或委托代理人参加，否则视为投标人自动弃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开标组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通常由招标方招标机构或委托代理机构组织。上级主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部门派员监督，必要时可请公证机构参加。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开标程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开标分为公开开标和秘密开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公开开标程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公开开标允许所有投标人或其代表出席开标会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标方主持人宣布会议开始，介绍参与投标的物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服务企业、评标小组成员名单和监督方人员名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评标小组会推选评标专家组组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③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标方代表介绍此次招标情况和招标物业情况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④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监督方（公证机构）查验到会投标方代表身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宣布因投标书迟到或其他违反招标文件要求而被取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资格的投标单位名称，并记录在案，由监督方（公证机构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评标小组签字确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⑥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监督方（公证机构）和各投标方代表检查投标文件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封情况，当场开启所有合格投标方的投标文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⑦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主持人组织各投标方代表现场抽签决定答辩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招标方公布标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监督方（公证机构）宣布开标有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e3ff"/>
                </a:solidFill>
                <a:latin typeface="Arial Black"/>
                <a:ea typeface="黑体"/>
              </a:rPr>
              <a:t>      </a:t>
            </a:r>
            <a:r>
              <a:rPr b="0" lang="zh-CN" sz="18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18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      </a:t>
            </a:r>
            <a:r>
              <a:rPr b="1" lang="zh-CN" sz="18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秘密开标程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招标机构在无投标人现场参与情况下进行的开标。其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序与公开开标基本一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无论哪种形式的开标，招标方都应在定标后将结果正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通知各投标人。结果有三种：中标、未中标、此次投标作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43200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二）评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由评标小组依据招标方在招标文件中提出的要求，对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投标单位的方案、业绩、报价等进行分项打分评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评标一般按以下程序进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评标小组成员各自独立对投标文件进行详细阅读和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评标小组对评标过程中出现的影响此次评标的重要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题进行会商，并作出此次评标继续进行、推迟进行或宣布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止的决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③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评标小组对评标过程中新出现的技术问题进行商讨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确定统一评标原则，保证评标的公平与公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投标文件评审结束后，评标小组按开标抽签决定的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序，就投标文件评审中的相关问题提出质询，由投标单位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行答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评标小组成员结合投标文件评审和投标单位答辩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况，各自依据招标方设定的评分标准对每个投标方案进行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项打分，并签字确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⑥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招标方工作人员对评标小组全体成员的评价分数进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统计，按招标文件预先规定的计分原则得出各投标单位的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终综合得分。该综合得分由评标小组成员、监督方签字确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评标小组出具评标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打分制评标的一般评标标准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技术标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分（答辩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分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总分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分    商务标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经济标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是否需要答辩环节根据招标文件约定的评标方式决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如物业涉及多种形态，经济标应对每种物业形态的评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设定合理标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三）定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招标方根据评审结果最终确定中标人排序，选择中标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标宣布阶段的程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①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招标方根据评标结果宣布中标人排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②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评标小组组长对此次评标进行综合点评和说明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③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监督方发表监督、指导意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主持人宣布此次招标结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三）前期物业管理招投标的基本规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住宅及同一物业管理区域内非住宅的建设单位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应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通过招投标的方式选聘具有相应资质的物业管理企业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物业中有住宅项目的建设单位应当通过招标投标的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式选聘具有相应资质的物业服务企业。一个物业管理区域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当作为一个整体进行招标投标。——重庆市物业管理条例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三十九条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四）定标后的工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标后，中标企业需对管理服务方案进行完善，与招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方完成合同签订及方案、合同的备案工作。未中标企业与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标方办理退还投标保证金等善后事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目前，开标、评标和定标通常同时完成。一些政府公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项目也采用分段进行方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七、招投标过程中的常见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一）招标方的常见问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招标理念有待改变，主要体现在低价中标比较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遍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招标文件不严谨，前后表述不一致，导致投标方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所适从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招标方不够专业，招标过程和评标标准有偏差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招标管理机构不统一，招标秩序较混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市场化机制未完全建立，招标流于形式化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对招标工作的监管还不严格，招标结果的公正性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公平性难以真正保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二）投标方的常见问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不重视项目定位或定位出现偏差（如不切实际的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味拔高项目定位，无针对性的采用相同的服务理念，超越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常物业服务范畴的口号式理念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文件模式化，缺乏项目针对性（不分项目物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形态和项目特点，照搬相同的模式和陈述内容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对招标文件的响应不够，投标文件出现漏项（与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标文件未形成一一对应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对物业管理的基本要求不清晰，投标文件出现缺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如应急预案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对物业管理服务的内容理解不准确，投标文件不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当地扩大或减少物业服务工作内容（如为开发商服务内容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多、承担社会责任过多、装修管理超越权限；物业公共性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规服务漏项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对物业服务企业的主体地位认识不清，法律关系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管理关系描述混乱（如把与业委会、居委会、上级主管部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的关系描述为内部的上下级关系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服务承诺指标过高、过低或对不可控指标进行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诺，脱离实际（如对治安保障和消防保障指标无前提的过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承诺；新接管楼盘设备设施的完好率过低、投诉处理率过低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回访率过低；对投诉率、治安事件发生率等不可控指标进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承诺；对酬金制和包干制概念不清，物业服务费公开承诺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当。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对服务指标和管理指标的概念不清（如把创优指标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收费率指标、有效投诉率指标等管理指标作为服务指标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经济测算不规范、不严谨（如项目设置不规范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不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成本监审办法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违反法律法规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不计算职工五险一金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础数据不真实、脱离现实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前期入住率、收费率均按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0%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算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计算口径前后不一致、计算方式错误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营业税的计算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数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缺少必要的财务分析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标书制作不细致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如文字错误、排版错误、商务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料不全、印鉴不齐、不符合招标文件要求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尤其是暗标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人对项目和物业管理业务不熟悉，无法回答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标小组专家质询，答辩水平普遍不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八、物业服务企业参与投标的要点与策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一）参加投标的三个要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精心准备标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目前多数招投标活动是以标书为主的，因此投标单位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须精心制作标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突出核心优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目前，多数投标单位均参照建设部颁发的国优标准以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各地省、市、地区的评优标准来制定自己的服务标准，千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一律。投标单位应重点突出本企业的核心优势，从而在竞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中形成自己的核心竞争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24000" y="1268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合理确定价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价格是投标的中心问题，也是投标成败的关键。投标单位在有盈利空间的情况下，要估算好投标价格的平均基数，制定具有竞争力投标价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二）参与投标的基本策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全方位了解信息，积极开展公关活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一旦决定投标，首先必须了解与投标相关的所有信息，同时开展积极的公关活动，争取有利局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务必“一物一标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多数投标单位的标书都存在模式化问题，明显保留着“原有项目”的痕迹。这种在原有的标书上改一下项目名称和数据的做法，是对招标方和自己都不负责的做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标书应重点突出、详略得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标书不要大而失当，全而过杂。应重点对项目的分析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定位、服务标准、服务保证措施、人员物资配备和报价等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行重点阐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报价要有针对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经济标的评定方式一般在招标文件中有明确规定。投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单位应根据每次招标不同的报价评定方式制定有针对性的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价方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用更多人听得明白的语言和表达方式进行陈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考虑业主方可能有为数不少的非专业人士，用尽可能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俗易懂的语言陈述投标要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把握评委心理、注意答辩策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评委一般会就自己关注或有专长的问题提问，同时，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委更看重投标人对项目管理有哪些独特的做法和具体措施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以及答辩人的专业熟悉程度。作为投标者，对评委的这一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理要有把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答辩技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引用可靠的数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用法规政策说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过往成功经历和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自信果断和技巧拖延结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承认不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e3ff"/>
                </a:solidFill>
                <a:latin typeface="Arial Black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九、物业管理招投标的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一）由前期招投标为主向后期招投标为主转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随着住宅开发的逐步减少，现有住宅前期合同的逐步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期，后期招投标的比重将逐步增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二）招投标的方式更加多元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住宅前期招投标将更多采用投标书评标的方式，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由明标评标向暗标评标转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住宅后期的招投标，明标评标和暗标评标共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招标方对投标的业绩考核有书面审查也有现场考核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投标人少于三个或者住宅规模较小的，经物业所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地的区、县人民政府房地产行政主管部门批准，可以采用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议方式选聘具有相应资质的物业管理企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投标人少于三个或者住宅建筑面积少于三万平方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的，经物业所在地区、县（自治县）房地产行政主管部门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准，建设单位可以采用协议方式选聘具有相应资质的物业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务企业。——重庆市物业管理条例第三十九条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e3ff"/>
                </a:solidFill>
                <a:latin typeface="Arial Black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三）招标代理机构作用将增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特别是住宅物业，由于业委会对招投标专业知识的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缺，对招标代理的需求将会增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四）招标方由以追求低价为主转向追求质价相符的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务为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目前的公开招投标多数以价格为主，经济标所占比例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高达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80%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。随着经济的发展，支付能力的增加，消费意识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改变，招标方更加追求质价相称的服务，追求物业的增值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值。经济标的比重将会下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e3ff"/>
                </a:solidFill>
                <a:latin typeface="Arial Black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五）公开招投标将成为主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建设方垄断自己开发的住宅小区物业管理的情况将会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。（如：苏州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六）物业服务市场更加成熟，招投标更加规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公开、公平、公正、规范将成为招投标的主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e3ff"/>
                </a:solidFill>
                <a:latin typeface="Arial Black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谢谢大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ffcc"/>
                </a:solidFill>
                <a:uFillTx/>
                <a:latin typeface="Arial"/>
                <a:ea typeface="黑体"/>
                <a:hlinkClick r:id="rId1"/>
              </a:rPr>
              <a:t>www.zgwyzx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国家提倡其他物业的建设单位通过招投标的方式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选聘具有相应资质的物业管理企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提倡业主通过招标投标的方式选聘物业服务企业。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重庆市物业管理条例四十六条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3e3ff"/>
                </a:solidFill>
                <a:latin typeface="Arial Black"/>
                <a:ea typeface="黑体"/>
              </a:rPr>
              <a:t>      </a:t>
            </a:r>
            <a:r>
              <a:rPr b="0" lang="zh-CN" sz="18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18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       </a:t>
            </a:r>
            <a:r>
              <a:rPr b="1" lang="zh-CN" sz="18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0728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四）前期物业管理招标的方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招投标方式分为公开招标和邀请招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公开招标是指招标人通过公共媒体公开发布招标信息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邀请所有符合投标条件的潜在投标人参加投标的招标方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特点：时间较长、程序复杂、费用较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邀请招标是指不公开发布招标信息，直接向三个以上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业服务企业发出参加投标邀请的招标方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特点：时间较短、程序简单，成本较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43200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e3ff"/>
                </a:solidFill>
                <a:latin typeface="Arial Black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8701c"/>
                </a:solidFill>
                <a:latin typeface="Arial Black"/>
                <a:ea typeface="黑体"/>
              </a:rPr>
              <a:t>MOREKEN</a:t>
            </a:r>
            <a:r>
              <a:rPr b="1" lang="zh-CN" sz="2000" spc="-1" strike="noStrike">
                <a:solidFill>
                  <a:srgbClr val="f8701c"/>
                </a:solidFill>
                <a:latin typeface="黑体"/>
                <a:ea typeface="黑体"/>
              </a:rPr>
              <a:t>麦耕物业咨询                 </a:t>
            </a:r>
            <a:r>
              <a:rPr b="1" lang="zh-CN" sz="2000" spc="-1" strike="noStrike">
                <a:solidFill>
                  <a:srgbClr val="f8701c"/>
                </a:solidFill>
                <a:latin typeface="楷体_GB2312"/>
                <a:ea typeface="楷体_GB2312"/>
              </a:rPr>
              <a:t>麦播千里  耕耘天下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五）物业管理招投标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物业管理招标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公平原则。招标文件中向所有物业服务企业提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的招标条件一致，即起点公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采用统一的招标方式招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对所有投标单位的要求一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③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对招标文件的说明应对所有投标单位公开进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24:21Z</dcterms:created>
  <dc:creator>袁涛</dc:creator>
  <dc:description/>
  <dc:language>en-US</dc:language>
  <cp:lastModifiedBy>USER</cp:lastModifiedBy>
  <dcterms:modified xsi:type="dcterms:W3CDTF">2009-11-25T14:17:51Z</dcterms:modified>
  <cp:revision>56</cp:revision>
  <dc:subject/>
  <dc:title>MOREKEN麦耕咨询</dc:title>
</cp:coreProperties>
</file>